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D87-712D-4C26-8E65-732266BA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2B15-D4F4-4C51-8B9F-FEC6F3F5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828-B3B7-4032-B303-EE3A739A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340-AC82-41B0-8210-9EABBBB4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245-BAF4-4D82-B01F-3F98B025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A15-749E-4818-ACE5-710FED9A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094B-D107-408A-872B-D7373B00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77E7-381D-4191-8D87-7ADC6F6C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7E38-2BE5-47A8-B7EC-13E330C0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FCB-DC25-4EAA-A9CC-6E837080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44C7-7B6E-47A6-AC5A-6EAD4F45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D628-3CB8-41D8-92C9-A95EB9F6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360"/>
                <a:ext cx="3352680" cy="110304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4699-9C56-4820-97BE-AA3BB4361E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Arial"/>
              </a:rPr>
              <a:t>Латерофарингеални прос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Стилоидна пречага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1) processus styloideus ossis temporalis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2) m. stylohyoideus, m. styloglossus, m. stylopharyngeus, 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    lig. stylohyoideum, lig. stylomandibularae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3) stilofarinfealna fascija (fascia stylopharynge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Латерофарингеални простор:</a:t>
            </a:r>
            <a:br>
              <a:rPr sz="1800"/>
            </a:b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 1) Престилоидни простор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(spatium prestyloideum)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2)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Ретростилоидни простор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(spatium retrostyloideu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рестилоидни простор:</a:t>
            </a:r>
            <a:br>
              <a:rPr sz="2000"/>
            </a:b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 - спољашњи зид: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- m. pterygoideus medialis (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масетерични предео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унутрашњи зид: - бочни зид носног и усног дела ждрела</a:t>
            </a:r>
            <a:br>
              <a:rPr sz="1800"/>
            </a:b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 - задњи зид: - унутрашњи део стилоидне преча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Садржај:</a:t>
            </a:r>
            <a:br>
              <a:rPr sz="1800"/>
            </a:b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 - доњи део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m. styloglossus-a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- a. palatina ascendens, a. pharyngea ascendens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вене пратиље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- n. pterygoideus medialis, n. tensoris veli palatini, n. tensoris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  tympani, n. glossopharynge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rcRect l="7697" t="0" r="37469" b="37210"/>
          <a:stretch/>
        </p:blipFill>
        <p:spPr>
          <a:xfrm>
            <a:off x="684360" y="0"/>
            <a:ext cx="8028000" cy="6892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rcRect l="9598" t="0" r="37986" b="39327"/>
          <a:stretch/>
        </p:blipFill>
        <p:spPr>
          <a:xfrm>
            <a:off x="755640" y="0"/>
            <a:ext cx="7669080" cy="6659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26952" t="20168" r="9765" b="21972"/>
          <a:stretch/>
        </p:blipFill>
        <p:spPr>
          <a:xfrm>
            <a:off x="500040" y="642960"/>
            <a:ext cx="7715160" cy="5643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26368" t="13915" r="9180" b="13575"/>
          <a:stretch/>
        </p:blipFill>
        <p:spPr>
          <a:xfrm>
            <a:off x="857160" y="-212760"/>
            <a:ext cx="7858080" cy="70707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Arial"/>
              </a:rPr>
              <a:t>Латерофарингеални прос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Ретростилоидни просто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- предњи зид: стилоидна пречага – одваја га својим </a:t>
            </a:r>
            <a:r>
              <a:rPr b="0" i="1" lang="sr-CS" sz="2000" spc="-1" strike="noStrike">
                <a:solidFill>
                  <a:srgbClr val="ffffff"/>
                </a:solidFill>
                <a:latin typeface="Arial"/>
              </a:rPr>
              <a:t>унутрашњим делом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од  престилоидног простора, а својим </a:t>
            </a:r>
            <a:r>
              <a:rPr b="0" i="1" lang="sr-CS" sz="2000" spc="-1" strike="noStrike">
                <a:solidFill>
                  <a:srgbClr val="ffffff"/>
                </a:solidFill>
                <a:latin typeface="Arial"/>
              </a:rPr>
              <a:t>спољашњим делом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од паротидне ложе која је споља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- задњи зи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 lamina prevertebr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унутрашњи зи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 septum longitudin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адржај: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- a. carotis interna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- v. jugularis interna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- IX, X, XI, XII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ранијални нерв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горњи део стабла вратног симпатику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rcRect l="7671" t="0" r="38170" b="39179"/>
          <a:stretch/>
        </p:blipFill>
        <p:spPr>
          <a:xfrm>
            <a:off x="611280" y="185760"/>
            <a:ext cx="7921440" cy="6672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7671" t="0" r="37469" b="37210"/>
          <a:stretch/>
        </p:blipFill>
        <p:spPr>
          <a:xfrm>
            <a:off x="395280" y="0"/>
            <a:ext cx="8026560" cy="6888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Ретрофарингеални прос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Налази се иза ждрела, а  испред кичменог стуба прекривеног преткичменим мишићима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Зидови: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- предњи: задњи зид ждрела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- задњи: вратни кичмени пршљенови прекривени преткичменим мишићима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- бочни: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septum longitudinale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адржај: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- растресито ткиво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- 2-3 nodi lymphatici retropaharynge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10</cp:lastModifiedBy>
  <dcterms:modified xsi:type="dcterms:W3CDTF">2021-01-28T21:10:45Z</dcterms:modified>
  <cp:revision>1</cp:revision>
  <dc:subject/>
  <dc:title>Латерофарингеални простор</dc:title>
</cp:coreProperties>
</file>