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2A2B-C23A-4929-B257-44868B224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4641-D3D2-45A0-B30E-873C47BA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FEA2-D788-48FA-AEAD-C44C1F560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078B-7C58-452F-A3AC-20C9A3C56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8A53-D35F-446E-A4DE-E6B77EE4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5191-0659-40E0-B09C-2A3F4A8D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3783-F7BE-4CB5-A908-547573AD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27A1-1FD8-44BB-8A6D-1F386676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BA94-ABD8-42A5-ADEC-F749F1F0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2C65-1727-4B57-8C93-E0E9242C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616E-B747-46BE-ACA2-3D404F05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6E7D-6F27-47F9-A3B0-A97DAC84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CADD-476E-46B9-B9EF-CB270832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F469-1BF0-47A6-9B45-248A5A20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C460-1F48-444B-BAED-3089F5DA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FA19-1A8B-4D07-9D2C-714CED95E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22EF-12FA-4F09-B0BC-7BE6F50E6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6070-E369-4327-AF25-92A13073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7ED7-8D21-403C-9B86-A24D0172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6670-3D25-400F-BFF1-D7294ABC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FA1C-1603-447A-B972-B507BE41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297A-2A61-47B1-B7F1-6A589591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81DD-4177-4F0B-A304-5B736D59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51FB-8106-4B5B-A49D-6A9337E0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424B-34B5-4910-AF87-2208DF882D0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79BC-81C3-421D-AB9C-04DD266ED73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ТОПОГРАФСКИ ПРЕДЕЛИ ВРАТ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6360" y="1413000"/>
            <a:ext cx="6912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Regio cervicalis anterior – </a:t>
            </a:r>
            <a:br>
              <a:rPr sz="3000"/>
            </a:b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(предњи предео врата)</a:t>
            </a:r>
            <a:br>
              <a:rPr sz="3000"/>
            </a:br>
            <a:r>
              <a:rPr b="0" lang="sr-Latn-CS" sz="3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Regio sternocleidomastoidea </a:t>
            </a:r>
            <a:br>
              <a:rPr sz="3000"/>
            </a:br>
            <a:r>
              <a:rPr b="0" lang="sr-Latn-CS" sz="3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Regio cervicalis lateralis – </a:t>
            </a:r>
            <a:br>
              <a:rPr sz="3000"/>
            </a:b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(бо</a:t>
            </a:r>
            <a:r>
              <a:rPr b="0" lang="sr-Latn-CS" sz="3000" spc="-1" strike="noStrike">
                <a:solidFill>
                  <a:srgbClr val="ffffcc"/>
                </a:solidFill>
                <a:latin typeface="Tahoma"/>
              </a:rPr>
              <a:t>чни предео врата)</a:t>
            </a:r>
            <a:br>
              <a:rPr sz="3000"/>
            </a:br>
            <a:r>
              <a:rPr b="0" lang="sr-Latn-CS" sz="3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cc"/>
                </a:solidFill>
                <a:latin typeface="Tahoma"/>
              </a:rPr>
              <a:t>Regio cervicalis posterior –</a:t>
            </a:r>
            <a:br>
              <a:rPr sz="3000"/>
            </a:br>
            <a:r>
              <a:rPr b="0" lang="sr-Latn-CS" sz="30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0" lang="sr-CS" sz="3000" spc="-1" strike="noStrike">
                <a:solidFill>
                  <a:srgbClr val="ffffcc"/>
                </a:solidFill>
                <a:latin typeface="Tahoma"/>
              </a:rPr>
              <a:t>задњи предео врата</a:t>
            </a:r>
            <a:r>
              <a:rPr b="0" lang="sr-Latn-CS" sz="30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Fasciae cervicali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Фасције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 предње стране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врата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1) lamina superficialis fasciae cervicalis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2) lamina pretrachealis fasciae cervicalis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3) lamina vertebralis fasciae cervicalis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Ме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ђуфасцијални простор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1)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надгрудни или супрастернални простор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2)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подвилични или субмандибуларни простор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3) органски или висцерални простор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4) ретровисцерални простор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5) каротидни омотач (vagina carotic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Фасције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 задње стране врата: </a:t>
            </a:r>
            <a:br>
              <a:rPr sz="2000"/>
            </a:b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1)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fascia musculi trapezii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2)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fascia nucha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99"/>
                </a:solidFill>
                <a:latin typeface="Tahoma"/>
              </a:rPr>
              <a:t>МИШИЋИ ПРЕДЊЕГ ПРЕДЕЛА ВРАТА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897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ffffcc"/>
                </a:solidFill>
                <a:latin typeface="Tahoma"/>
              </a:rPr>
              <a:t>МИШИЋИ ПОТКОЖНОГ СЛОЈ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Platysma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ffffcc"/>
                </a:solidFill>
                <a:latin typeface="Tahoma"/>
              </a:rPr>
              <a:t>МИШИЋИ ПОВРШИНСКОГ СЛОЈ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Sternocleidomastoideu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МИ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ШИЋИ</a:t>
            </a: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 СРЕДЊЕГ СЛОЈ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1) Mm. suprahyoidei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M. 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igastricu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M. 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S</a:t>
            </a: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tylohyoideu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M. 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</a:t>
            </a: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ylohyoideu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M. 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G</a:t>
            </a: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enyohyoideu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2) Mm. </a:t>
            </a: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nfrahyoidei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Sternohyoideu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Omohyoideu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Sternothyroideu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Thyrohyoideu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76720" y="1600200"/>
            <a:ext cx="4067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МИ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ШИЋИ</a:t>
            </a: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ДУБОКОГ</a:t>
            </a: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 СЛОЈ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1) </a:t>
            </a:r>
            <a:r>
              <a:rPr b="1" lang="sr-CS" sz="1900" spc="-1" strike="noStrike">
                <a:solidFill>
                  <a:srgbClr val="ffffcc"/>
                </a:solidFill>
                <a:latin typeface="Tahoma"/>
              </a:rPr>
              <a:t>Преткичмени мишћи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M. 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Rectus capitis anterior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M. 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Longus capiti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M. 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Longus colli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2) Mm. </a:t>
            </a: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scaleni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Scalenus anterior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Scalenus mediu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Scalenus posterior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Scalenus minimu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cc"/>
                </a:solidFill>
                <a:latin typeface="Tahoma"/>
              </a:rPr>
              <a:t>Мишићи поткожног слој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1571400"/>
            <a:ext cx="84726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lat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ys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Горе: дубока страна коже образа и комисуре усана и доња ивица тела мандибул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оле: кожа предње стране ГК (до 2. међуреб. прост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нервациј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: r.coli n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aci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ејство: одиже, затеже и уздужно набира кожу предње и бочне стране врата, помаже отварање ус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rcRect l="7640" t="0" r="37537" b="37352"/>
          <a:stretch/>
        </p:blipFill>
        <p:spPr>
          <a:xfrm>
            <a:off x="826920" y="0"/>
            <a:ext cx="798228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M. sternocleidomastoideu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14200" y="1000080"/>
            <a:ext cx="8715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Припоји и односи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Горе: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 mastoideus, l.nuchae superi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оле: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anubrium sterni,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задња ивица клавикул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овршна стран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: v.jugularis ex, n.transversus coli, n.aur.ma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убока стран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: A:C:C., VJI, N.vagu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Инервациј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.accessorius(r.externus), pl.cervicalis (C2- C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Дејство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Тачка ослонца на ГК- прегиба главу напред, бочно савија главу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(torticolli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Тачка ослонца на глави – помоћни инспиратор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rcRect l="7810" t="0" r="37870" b="37549"/>
          <a:stretch/>
        </p:blipFill>
        <p:spPr>
          <a:xfrm>
            <a:off x="468360" y="0"/>
            <a:ext cx="790884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rcRect l="7788" t="0" r="37685" b="37549"/>
          <a:stretch/>
        </p:blipFill>
        <p:spPr>
          <a:xfrm>
            <a:off x="611280" y="0"/>
            <a:ext cx="793908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Mm.suprahyoidei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14200" y="785520"/>
            <a:ext cx="8715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b0f0"/>
                </a:solidFill>
                <a:latin typeface="Tahoma"/>
              </a:rPr>
              <a:t>M.digastric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Fossa digastrica,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тело хиоидне кости и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incisura mastoid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Trigonum submandibulare, trig.linguale ant.et pos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enter ant-n.mylohyoideus (n.alv.infer.  - n.mandibulari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enter posterior – r.digastricus n.faci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одиже хиоидну кост при говору и гутању и отвара ус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b0f0"/>
                </a:solidFill>
                <a:latin typeface="Tahoma"/>
              </a:rPr>
              <a:t>M.stylohyoide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.styloideus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 тело хиоидне к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.stylohyoideus – r digastricus – n.faci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одиже хиоидну кост при говору и гутањ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Mm.suprahyoide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928440"/>
            <a:ext cx="91440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b0f0"/>
                </a:solidFill>
                <a:latin typeface="Tahoma"/>
              </a:rPr>
              <a:t>M.mylohyoide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Linea mylohyoidea,raphe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 тело хиоидне к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venter anterior m.digastrici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.geniohyoideus –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мишићни под усне дупљ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Горња страна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– m.geniohyoideus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gl.sublingu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оња страна–преднји трбух дигастрикуса и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gl.submandibular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.mylohyoideus – NAI – n. Mandibular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одиже хиоидну кост, подиже под усне дупље, отвара ус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b0f0"/>
                </a:solidFill>
                <a:latin typeface="Tahoma"/>
              </a:rPr>
              <a:t>M.geniohyoide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pina mentalis,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тело хиоидне к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.hypogloss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одиже хиоидну кост и спушта доњу вилиц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rcRect l="7788" t="394" r="37685" b="37549"/>
          <a:stretch/>
        </p:blipFill>
        <p:spPr>
          <a:xfrm>
            <a:off x="611280" y="74520"/>
            <a:ext cx="7935840" cy="67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7810" t="0" r="37870" b="37549"/>
          <a:stretch/>
        </p:blipFill>
        <p:spPr>
          <a:xfrm>
            <a:off x="468360" y="0"/>
            <a:ext cx="790884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Mm.infrahyoide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83628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.sternohyoideus i m.omohyoideus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у површни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, a m. sternothyroideus i m.thyrhyoideus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у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убоки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дваја их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lamina pretrachealis f.col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Инервациј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: pl.cervicalis – ansa cervicalis,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ем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m.thyrohyoideus –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стоимена грана из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adix superior ansa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Дејство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: повлаче ОХ наниже при говору и гутању, фиксирају хиоидну кост и омогућавају дејство натхиоидних мишић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2d050"/>
                </a:solidFill>
                <a:latin typeface="Tahoma"/>
              </a:rPr>
              <a:t>M.sternohyoide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Задња страна манубријума стернума и доња ивица тела О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2d050"/>
                </a:solidFill>
                <a:latin typeface="Tahoma"/>
              </a:rPr>
              <a:t>M.omohyoide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Горња ивица лопатице и донја ивица тела О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Trig.omoclaviculare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trig.caratic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овлачи и фиксира ОХ, затеже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l.pretrachealis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, побољшава венски крвоток главе и вр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Mm.infrahyoide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71468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2d050"/>
                </a:solidFill>
                <a:latin typeface="Tahoma"/>
              </a:rPr>
              <a:t>M.sternothyroide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Задња страна манубријума и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l.obliqua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тироидне хрскав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овлачи тироидну хрскавицу наниже и фиксира гркљан и О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2d050"/>
                </a:solidFill>
                <a:latin typeface="Tahoma"/>
              </a:rPr>
              <a:t>M.thyrohyoide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L.obliqua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тир.хрск. и  велики рог и тело хиоидне к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бара ОХ и подиже тироидну хрскавицу и гркљан при говору и гутању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(m.levator gl.thyroidea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rcRect l="7640" t="0" r="37685" b="37746"/>
          <a:stretch/>
        </p:blipFill>
        <p:spPr>
          <a:xfrm>
            <a:off x="826920" y="0"/>
            <a:ext cx="796464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Mm.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p</a:t>
            </a: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revertebrales – </a:t>
            </a:r>
            <a:r>
              <a:rPr b="0" lang="sr-Latn-CS" sz="2800" spc="-1" strike="noStrike">
                <a:solidFill>
                  <a:srgbClr val="ffffcc"/>
                </a:solidFill>
                <a:latin typeface="Tahoma"/>
              </a:rPr>
              <a:t>rr.ventrales nn.cervical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ium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14200" y="1643040"/>
            <a:ext cx="8715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ahoma"/>
              </a:rPr>
              <a:t>M.rectus capitis anteri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ars basilaris OK, pr.transversus atla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Флексија и бочно савијање главе на своју стра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ahoma"/>
              </a:rPr>
              <a:t>M.longus cap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ars basilaris OK, PT  C3-C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Флексија и бочно савијање главе на своју стра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ahoma"/>
              </a:rPr>
              <a:t>M.longus coll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д предњег лука атласа до тела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Th 3,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врх троугла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T C5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Флексија главе и врата и бочно савија глав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Mm.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s</a:t>
            </a: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caleni – </a:t>
            </a:r>
            <a:r>
              <a:rPr b="0" lang="sr-Latn-CS" sz="2800" spc="-1" strike="noStrike">
                <a:solidFill>
                  <a:srgbClr val="ffffcc"/>
                </a:solidFill>
                <a:latin typeface="Tahoma"/>
              </a:rPr>
              <a:t>rr.ventrales nn.cervical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ium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14200" y="928440"/>
            <a:ext cx="8715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2d050"/>
                </a:solidFill>
                <a:latin typeface="Tahoma"/>
              </a:rPr>
              <a:t>M.scalenus anteri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T C3-C6, costae 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m.scm-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редњи скаленски отвор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: v.subclav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а средњим скаленским мишићем – заднји скаленски отвор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: a.subclavia, pl.brachialis,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код оба је одоздо 1.ребро, а напред клавику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2d050"/>
                </a:solidFill>
                <a:latin typeface="Tahoma"/>
              </a:rPr>
              <a:t>M.scalenus medi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T C2 –C7, 1 i 2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ребр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2d050"/>
                </a:solidFill>
                <a:latin typeface="Tahoma"/>
              </a:rPr>
              <a:t>M.scalenus posteri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T C 5,6,7, costae 2,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некад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2d050"/>
                </a:solidFill>
                <a:latin typeface="Tahoma"/>
              </a:rPr>
              <a:t>M.scalenus minim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д предњег мишић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, membrana suprapleur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T C 6 i 7, cupula pleurae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1.ребро.- затеже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cupulu pleura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rcRect l="8563" t="0" r="38017" b="37746"/>
          <a:stretch/>
        </p:blipFill>
        <p:spPr>
          <a:xfrm>
            <a:off x="971640" y="0"/>
            <a:ext cx="7780320" cy="68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99"/>
                </a:solidFill>
                <a:latin typeface="Tahoma"/>
              </a:rPr>
              <a:t>4) Regio cervicalis posterior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12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Слојеви: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1) кожа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2) поткожни слој са површинским судовима и живцима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a. occipitalis, n. occipitalis major, n. occipitalis tertius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3) lamina superficialis fasciae cervicalis (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покрива м. трапезиус и наставља се површном фасцијом леђа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4) lig. nuchae (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задња вратна веза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5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мишићи задње стране врата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6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дубоке артерије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a. occipitalis, a. vertebralis, a. cervicalis profunda, ramus superficialis a. transversae colli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7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дубоке вене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v. occipitalis, v. vertebralis, v. cervicalis profunda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8) nodi lymphatici occipitales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9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дубоки живци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rr. dorsales nn. cervicalium, n. suboccipitalis i n. occipitalis tertiu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99"/>
                </a:solidFill>
                <a:latin typeface="Tahoma"/>
              </a:rPr>
              <a:t>МИШИЋИ ЗАДЊЕГ ПРЕДЕЛА ВРАТА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ffffcc"/>
                </a:solidFill>
                <a:latin typeface="Tahoma"/>
              </a:rPr>
              <a:t>МИШИЋИ ПРВОГ СЛОЈ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Trapeziu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ffffcc"/>
                </a:solidFill>
                <a:latin typeface="Tahoma"/>
              </a:rPr>
              <a:t>МИШИЋИ ДРУГОГ СЛОЈ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Splenius capiti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Splenius cervici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Levator scapulae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ffffcc"/>
                </a:solidFill>
                <a:latin typeface="Tahoma"/>
              </a:rPr>
              <a:t>МИШИЋИ ТРЕЋЕГ СЛОЈ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Spinalis cervici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Spinalis capiti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Semispinalis capiti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Longissimus capiti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Longissimus cervici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Iliocostalis cervici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2920" y="1125360"/>
            <a:ext cx="4038840" cy="549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ffffcc"/>
                </a:solidFill>
                <a:latin typeface="Tahoma"/>
              </a:rPr>
              <a:t>МИШИЋИ ЧЕТВРТОГ СЛОЈ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CS" sz="1900" spc="-1" strike="noStrike" u="sng">
                <a:solidFill>
                  <a:srgbClr val="ffffcc"/>
                </a:solidFill>
                <a:uFillTx/>
                <a:latin typeface="Tahoma"/>
              </a:rPr>
              <a:t>1) Горњи де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Rectus capitis posterior minor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Rectus capitis posterior major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Obliquus capitis superior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Obliquus capitis inferior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CS" sz="1900" spc="-1" strike="noStrike">
                <a:solidFill>
                  <a:srgbClr val="ffffcc"/>
                </a:solidFill>
                <a:latin typeface="Tahoma"/>
              </a:rPr>
              <a:t>2) Доњи де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Interspinales cervici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Transversospinalis</a:t>
            </a:r>
            <a:br>
              <a:rPr sz="1900"/>
            </a:b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- m. semispinalis</a:t>
            </a:r>
            <a:br>
              <a:rPr sz="1900"/>
            </a:b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- (m. multifidus)</a:t>
            </a:r>
            <a:br>
              <a:rPr sz="1900"/>
            </a:b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- (mm. rotatores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m. Intertransversarii</a:t>
            </a:r>
            <a:br>
              <a:rPr sz="1900"/>
            </a:b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- mm. intertransversarii  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anteriores cervicis</a:t>
            </a:r>
            <a:br>
              <a:rPr sz="1900"/>
            </a:b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- mm. intertransversarii 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posteriores cervici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Rectus capitis laterali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rcRect l="7788" t="0" r="37537" b="37746"/>
          <a:stretch/>
        </p:blipFill>
        <p:spPr>
          <a:xfrm>
            <a:off x="684360" y="0"/>
            <a:ext cx="796428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cc"/>
                </a:solidFill>
                <a:latin typeface="Tahoma"/>
              </a:rPr>
              <a:t>Мишићи другог слоја задње стране врат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14200" y="2071440"/>
            <a:ext cx="87156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M.splenius cap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.mastoideus, l.nuchae superior- lig.nuchae i PS C7- TH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нервациј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: rr.dorsales nn.cervic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ејство: опружа главу, бочно је савија и обрће на своју стра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M.splenius cervic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T C1-3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о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PS  Th 3-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M.levator scapul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rcRect l="7640" t="0" r="37537" b="37352"/>
          <a:stretch/>
        </p:blipFill>
        <p:spPr>
          <a:xfrm>
            <a:off x="826920" y="0"/>
            <a:ext cx="798228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rcRect l="8083" t="0" r="37685" b="37549"/>
          <a:stretch/>
        </p:blipFill>
        <p:spPr>
          <a:xfrm>
            <a:off x="755640" y="0"/>
            <a:ext cx="789300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cc"/>
                </a:solidFill>
                <a:latin typeface="Tahoma"/>
              </a:rPr>
              <a:t>Мишићи трећег слоја задње стране врат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14200" y="857160"/>
            <a:ext cx="8715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ви улазе у састав </a:t>
            </a: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m.erector spinae,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ем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m.semispinalis capitis (</a:t>
            </a: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m.transversospinalis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нервациј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: rr.dorsales  nn.cervic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ејство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бострано- опружају главу и врат, а при једностраном дејству – савијају бочно главу на своју стран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cc"/>
                </a:solidFill>
                <a:latin typeface="Tahoma"/>
              </a:rPr>
              <a:t>Мишићи ИВ или дубоког слоја задње стране врата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857160"/>
            <a:ext cx="91440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рва 4 граде Арнолдов потиљачни троугао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– n.suboccipit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b0f0"/>
                </a:solidFill>
                <a:latin typeface="Tahoma"/>
              </a:rPr>
              <a:t>M.rectus capitis posterior min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спод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l.nuchae inferior – tuberc.posterior atlan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пружа глав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b0f0"/>
                </a:solidFill>
                <a:latin typeface="Tahoma"/>
              </a:rPr>
              <a:t>M.rectus capitis posterior maj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спод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l.nuchae inferior – PS C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пружа главу, савија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je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бочно  и обрће је на своју стра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b0f0"/>
                </a:solidFill>
                <a:latin typeface="Tahoma"/>
              </a:rPr>
              <a:t>M.obliquus capitis superi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L.nuchae inferior – PT atlan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пружа главу и обрће је на супротну стра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b0f0"/>
                </a:solidFill>
                <a:latin typeface="Tahoma"/>
              </a:rPr>
              <a:t>M.obliquus capitis inferi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д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PT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атлас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о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PS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акс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брће главу на своју стра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cc"/>
                </a:solidFill>
                <a:latin typeface="Tahoma"/>
              </a:rPr>
              <a:t>Мишићи  </a:t>
            </a: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IV</a:t>
            </a:r>
            <a:r>
              <a:rPr b="1" lang="sr-CS" sz="2800" spc="-1" strike="noStrike">
                <a:solidFill>
                  <a:srgbClr val="ffffcc"/>
                </a:solidFill>
                <a:latin typeface="Tahoma"/>
              </a:rPr>
              <a:t> слоја задње стране врат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14200" y="1071360"/>
            <a:ext cx="8715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b0f0"/>
                </a:solidFill>
                <a:latin typeface="Tahoma"/>
              </a:rPr>
              <a:t>Mm.interspinales cervic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пружају вратни део кичм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b0f0"/>
                </a:solidFill>
                <a:latin typeface="Tahoma"/>
              </a:rPr>
              <a:t>M.transversospinalis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.semispinalis, m.multifidus, mm.rotat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д крсне кости до потиљач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b0f0"/>
                </a:solidFill>
                <a:latin typeface="Tahoma"/>
              </a:rPr>
              <a:t>Mm.intertransversari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anteriores et posteriores cervic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Бочно савијање вратне кичм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b0f0"/>
                </a:solidFill>
                <a:latin typeface="Tahoma"/>
              </a:rPr>
              <a:t>M.rectus capitis later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T atlasa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о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ars lateralis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отиљачне к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нервациј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: r.ventralis n.cervicalis 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Бочно савија главу на своју стра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rcRect l="9191" t="0" r="37685" b="37549"/>
          <a:stretch/>
        </p:blipFill>
        <p:spPr>
          <a:xfrm>
            <a:off x="755640" y="0"/>
            <a:ext cx="773424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99"/>
                </a:solidFill>
                <a:latin typeface="Tahoma"/>
              </a:rPr>
              <a:t>PLEXUS CERVICALIS – </a:t>
            </a:r>
            <a:r>
              <a:rPr b="1" lang="sr-CS" sz="2800" spc="-1" strike="noStrike">
                <a:solidFill>
                  <a:srgbClr val="ffff99"/>
                </a:solidFill>
                <a:latin typeface="Tahoma"/>
              </a:rPr>
              <a:t>предње гране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 u="sng">
                <a:solidFill>
                  <a:srgbClr val="ffffcc"/>
                </a:solidFill>
                <a:uFillTx/>
                <a:latin typeface="Tahoma"/>
              </a:rPr>
              <a:t>Сензитивне гран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2000" spc="-1" strike="noStrike">
                <a:solidFill>
                  <a:srgbClr val="ffffcc"/>
                </a:solidFill>
                <a:latin typeface="Tahoma"/>
              </a:rPr>
              <a:t>- </a:t>
            </a:r>
            <a:r>
              <a:rPr b="1" lang="sr-Latn-CS" sz="2000" spc="-1" strike="noStrike">
                <a:solidFill>
                  <a:srgbClr val="ffff00"/>
                </a:solidFill>
                <a:latin typeface="Tahoma"/>
              </a:rPr>
              <a:t>N. Occipitalis minor </a:t>
            </a:r>
            <a:r>
              <a:rPr b="1" lang="sr-Latn-CS" sz="2000" spc="-1" strike="noStrike">
                <a:solidFill>
                  <a:srgbClr val="ffffcc"/>
                </a:solidFill>
                <a:latin typeface="Tahoma"/>
              </a:rPr>
              <a:t>–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кожа потиљ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2000" spc="-1" strike="noStrike">
                <a:solidFill>
                  <a:srgbClr val="ffffcc"/>
                </a:solidFill>
                <a:latin typeface="Tahoma"/>
              </a:rPr>
              <a:t>- </a:t>
            </a:r>
            <a:r>
              <a:rPr b="1" lang="sr-Latn-CS" sz="2000" spc="-1" strike="noStrike">
                <a:solidFill>
                  <a:srgbClr val="ffff00"/>
                </a:solidFill>
                <a:latin typeface="Tahoma"/>
              </a:rPr>
              <a:t>N. Auricularis magnus </a:t>
            </a:r>
            <a:r>
              <a:rPr b="1" lang="sr-Latn-CS" sz="2000" spc="-1" strike="noStrike">
                <a:solidFill>
                  <a:srgbClr val="ffffcc"/>
                </a:solidFill>
                <a:latin typeface="Tahoma"/>
              </a:rPr>
              <a:t>–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reg.parotidea,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задњи део ушне шкољке и мастоидног преде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2000" spc="-1" strike="noStrike">
                <a:solidFill>
                  <a:srgbClr val="ffffcc"/>
                </a:solidFill>
                <a:latin typeface="Tahoma"/>
              </a:rPr>
              <a:t>- </a:t>
            </a:r>
            <a:r>
              <a:rPr b="1" lang="sr-Latn-CS" sz="2000" spc="-1" strike="noStrike">
                <a:solidFill>
                  <a:srgbClr val="ffff00"/>
                </a:solidFill>
                <a:latin typeface="Tahoma"/>
              </a:rPr>
              <a:t>N. Transversus colli </a:t>
            </a:r>
            <a:r>
              <a:rPr b="1" lang="sr-Latn-CS" sz="2000" spc="-1" strike="noStrike">
                <a:solidFill>
                  <a:srgbClr val="ffffcc"/>
                </a:solidFill>
                <a:latin typeface="Tahoma"/>
              </a:rPr>
              <a:t>–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подвилични троугао и предњу страну вра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2000" spc="-1" strike="noStrike">
                <a:solidFill>
                  <a:srgbClr val="ffffcc"/>
                </a:solidFill>
                <a:latin typeface="Tahoma"/>
              </a:rPr>
              <a:t>- </a:t>
            </a:r>
            <a:r>
              <a:rPr b="1" lang="sr-Latn-CS" sz="2000" spc="-1" strike="noStrike">
                <a:solidFill>
                  <a:srgbClr val="ffff00"/>
                </a:solidFill>
                <a:latin typeface="Tahoma"/>
              </a:rPr>
              <a:t>Nn. Supraclaviculares </a:t>
            </a:r>
            <a:r>
              <a:rPr b="1" lang="sr-Latn-CS" sz="2000" spc="-1" strike="noStrike">
                <a:solidFill>
                  <a:srgbClr val="ffffcc"/>
                </a:solidFill>
                <a:latin typeface="Tahoma"/>
              </a:rPr>
              <a:t>–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горњи део предње стране ГК и раме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 u="sng">
                <a:solidFill>
                  <a:srgbClr val="ffffcc"/>
                </a:solidFill>
                <a:uFillTx/>
                <a:latin typeface="Tahoma"/>
              </a:rPr>
              <a:t>Моторне гран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ffffcc"/>
                </a:solidFill>
                <a:latin typeface="Tahoma"/>
              </a:rPr>
              <a:t>- гране за преткичмене мишић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ffffcc"/>
                </a:solidFill>
                <a:latin typeface="Tahoma"/>
              </a:rPr>
              <a:t>- гране за скаленске мишић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ffffcc"/>
                </a:solidFill>
                <a:latin typeface="Tahoma"/>
              </a:rPr>
              <a:t>- гране за стерноклеидомастоидни мишић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cc"/>
                </a:solidFill>
                <a:latin typeface="Tahoma"/>
              </a:rPr>
              <a:t>      </a:t>
            </a:r>
            <a:r>
              <a:rPr b="1" lang="sr-CS" sz="1800" spc="-1" strike="noStrike">
                <a:solidFill>
                  <a:srgbClr val="ffffcc"/>
                </a:solidFill>
                <a:latin typeface="Tahoma"/>
              </a:rPr>
              <a:t>- гране за м.трапезиу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800" spc="-1" strike="noStrike">
                <a:solidFill>
                  <a:srgbClr val="ffffcc"/>
                </a:solidFill>
                <a:latin typeface="Tahoma"/>
              </a:rPr>
              <a:t>- ansa cervical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800" spc="-1" strike="noStrike">
                <a:solidFill>
                  <a:srgbClr val="ffffcc"/>
                </a:solidFill>
                <a:latin typeface="Tahoma"/>
              </a:rPr>
              <a:t>- N.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p</a:t>
            </a:r>
            <a:r>
              <a:rPr b="1" lang="sr-Latn-CS" sz="1800" spc="-1" strike="noStrike">
                <a:solidFill>
                  <a:srgbClr val="ffffcc"/>
                </a:solidFill>
                <a:latin typeface="Tahoma"/>
              </a:rPr>
              <a:t>hrenic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1"/>
          <a:srcRect l="7640" t="0" r="37685" b="37746"/>
          <a:stretch/>
        </p:blipFill>
        <p:spPr>
          <a:xfrm>
            <a:off x="611280" y="0"/>
            <a:ext cx="796428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"/>
          <p:cNvPicPr/>
          <p:nvPr/>
        </p:nvPicPr>
        <p:blipFill>
          <a:blip r:embed="rId1"/>
          <a:srcRect l="7640" t="0" r="37685" b="37746"/>
          <a:stretch/>
        </p:blipFill>
        <p:spPr>
          <a:xfrm>
            <a:off x="684360" y="50760"/>
            <a:ext cx="796428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Pl.cervicalis – </a:t>
            </a:r>
            <a:r>
              <a:rPr b="1" lang="sr-CS" sz="2800" spc="-1" strike="noStrike">
                <a:solidFill>
                  <a:srgbClr val="ffffcc"/>
                </a:solidFill>
                <a:latin typeface="Tahoma"/>
              </a:rPr>
              <a:t>задње гране</a:t>
            </a:r>
            <a:br>
              <a:rPr sz="2800"/>
            </a:b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Rr. dorsales nn. cervicalium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13840" y="2071800"/>
            <a:ext cx="8929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C 1- </a:t>
            </a:r>
            <a:r>
              <a:rPr b="1" lang="sr-Latn-CS" sz="2400" spc="-1" strike="noStrike">
                <a:solidFill>
                  <a:srgbClr val="ff6b6b"/>
                </a:solidFill>
                <a:latin typeface="Tahoma"/>
              </a:rPr>
              <a:t>n.suboccipit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Мм.Арнолдовог троуг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C 2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пољашња грана – дубоке мишиће задње стране вр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--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унутрашња грана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sr-Latn-CS" sz="2400" spc="-1" strike="noStrike">
                <a:solidFill>
                  <a:srgbClr val="00b0f0"/>
                </a:solidFill>
                <a:latin typeface="Tahoma"/>
              </a:rPr>
              <a:t>n.occipitalis major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кожу потиљ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C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пољашња гр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Унутрашња грана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sr-Latn-CS" sz="2400" spc="-1" strike="noStrike">
                <a:solidFill>
                  <a:srgbClr val="00b0f0"/>
                </a:solidFill>
                <a:latin typeface="Tahoma"/>
              </a:rPr>
              <a:t>n.occipitalis tertius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кожу потиљ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"/>
          <p:cNvPicPr/>
          <p:nvPr/>
        </p:nvPicPr>
        <p:blipFill>
          <a:blip r:embed="rId1"/>
          <a:srcRect l="7640" t="0" r="37537" b="37352"/>
          <a:stretch/>
        </p:blipFill>
        <p:spPr>
          <a:xfrm>
            <a:off x="684360" y="0"/>
            <a:ext cx="798192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0" lang="sr-Latn-CS" sz="3200" spc="-1" strike="noStrike">
                <a:solidFill>
                  <a:srgbClr val="ffff99"/>
                </a:solidFill>
                <a:latin typeface="Tahoma"/>
              </a:rPr>
              <a:t>) Regio cervicalis anterior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Садржај: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1) кожа са платизмом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2) поткожни слој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v. jugularis ant., r. colli (n. facialis),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гране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 plexus cervicalis-a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3) lamina superficialis fasciae cervicalis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4) mm. suprahyoidei et mm. infrahyoidei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5) lamina pretrachealis fasciae cervicalis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6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дубоки крвни судов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a. carotis communis, a. carotis externa, a. carotis interna, v. 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jugularis interna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7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дубоке лимфне жлезде врата (предње и делом бочне групе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8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дубоки живц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n. vagus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и његове гране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, n. hypoglossus,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моторне гране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plexus cervicalis-a,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део стабла вратног симпатикуса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9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подвилична пљувачна жлезда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glanduala submandibularis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10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тироидна и паратироидне жлезде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11) гркљан и вратни део душника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12) вратни део ждрела и једњака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13) преткичмени мишићи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14) lamina prevertebralis fasciae cervical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1"/>
          <a:srcRect l="8083" t="0" r="37390" b="38194"/>
          <a:stretch/>
        </p:blipFill>
        <p:spPr>
          <a:xfrm>
            <a:off x="684360" y="0"/>
            <a:ext cx="7939080" cy="67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99"/>
                </a:solidFill>
                <a:latin typeface="Tahoma"/>
              </a:rPr>
              <a:t>Trigonum submandibular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29600" cy="64533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cc"/>
                </a:solidFill>
                <a:latin typeface="Tahoma"/>
              </a:rPr>
              <a:t>Границе:</a:t>
            </a:r>
            <a:br>
              <a:rPr sz="1800"/>
            </a:br>
            <a:r>
              <a:rPr b="0" lang="sr-CS" sz="1800" spc="-1" strike="noStrike">
                <a:solidFill>
                  <a:srgbClr val="ffffcc"/>
                </a:solidFill>
                <a:latin typeface="Tahoma"/>
              </a:rPr>
              <a:t>- горе: доња ивица мандибуле</a:t>
            </a:r>
            <a:br>
              <a:rPr sz="1800"/>
            </a:br>
            <a:r>
              <a:rPr b="0" lang="sr-CS" sz="1800" spc="-1" strike="noStrike">
                <a:solidFill>
                  <a:srgbClr val="ffffcc"/>
                </a:solidFill>
                <a:latin typeface="Tahoma"/>
              </a:rPr>
              <a:t>- доле и напред: предњи трбух дигастричног мишића</a:t>
            </a:r>
            <a:br>
              <a:rPr sz="1800"/>
            </a:br>
            <a:r>
              <a:rPr b="0" lang="sr-CS" sz="1800" spc="-1" strike="noStrike">
                <a:solidFill>
                  <a:srgbClr val="ffffcc"/>
                </a:solidFill>
                <a:latin typeface="Tahoma"/>
              </a:rPr>
              <a:t>- доле и позади: задњи трбух дигастричног мишића</a:t>
            </a:r>
            <a:br>
              <a:rPr sz="1800"/>
            </a:br>
            <a:r>
              <a:rPr b="0" lang="sr-CS" sz="1800" spc="-1" strike="noStrike">
                <a:solidFill>
                  <a:srgbClr val="ffffcc"/>
                </a:solidFill>
                <a:latin typeface="Tahoma"/>
              </a:rPr>
              <a:t>- база: доња ивица мандибуле</a:t>
            </a:r>
            <a:br>
              <a:rPr sz="1800"/>
            </a:br>
            <a:r>
              <a:rPr b="0" lang="sr-CS" sz="1800" spc="-1" strike="noStrike">
                <a:solidFill>
                  <a:srgbClr val="ffffcc"/>
                </a:solidFill>
                <a:latin typeface="Tahoma"/>
              </a:rPr>
              <a:t>- врх: међутрбушна тетива дигастричног мишић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cc"/>
                </a:solidFill>
                <a:latin typeface="Tahoma"/>
              </a:rPr>
              <a:t>Садржај:</a:t>
            </a:r>
            <a:br>
              <a:rPr sz="1800"/>
            </a:br>
            <a:r>
              <a:rPr b="0" lang="sr-CS" sz="1800" spc="-1" strike="noStrike">
                <a:solidFill>
                  <a:srgbClr val="ffffcc"/>
                </a:solidFill>
                <a:latin typeface="Tahoma"/>
              </a:rPr>
              <a:t>1) кожа</a:t>
            </a:r>
            <a:br>
              <a:rPr sz="1800"/>
            </a:br>
            <a:r>
              <a:rPr b="0" lang="sr-CS" sz="1800" spc="-1" strike="noStrike">
                <a:solidFill>
                  <a:srgbClr val="ffffcc"/>
                </a:solidFill>
                <a:latin typeface="Tahoma"/>
              </a:rPr>
              <a:t>2) поткожни слој, платизма, површнски крвни и лимфни судови и живци </a:t>
            </a:r>
            <a:br>
              <a:rPr sz="1800"/>
            </a:b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(n. transversus colli (</a:t>
            </a:r>
            <a:r>
              <a:rPr b="0" lang="sr-CS" sz="1800" spc="-1" strike="noStrike">
                <a:solidFill>
                  <a:srgbClr val="ffffcc"/>
                </a:solidFill>
                <a:latin typeface="Tahoma"/>
              </a:rPr>
              <a:t>сензитивни</a:t>
            </a: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) i r. colli nervi facialis </a:t>
            </a:r>
            <a:r>
              <a:rPr b="0" lang="sr-CS" sz="1800" spc="-1" strike="noStrike">
                <a:solidFill>
                  <a:srgbClr val="ffffcc"/>
                </a:solidFill>
                <a:latin typeface="Tahoma"/>
              </a:rPr>
              <a:t>(моторни</a:t>
            </a: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))</a:t>
            </a:r>
            <a:br>
              <a:rPr sz="1800"/>
            </a:b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3) lamina superficialis fasciae cervicalis </a:t>
            </a:r>
            <a:br>
              <a:rPr sz="1800"/>
            </a:b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4) mm. suprahyoidei </a:t>
            </a:r>
            <a:r>
              <a:rPr b="0" lang="sr-CS" sz="1800" spc="-1" strike="noStrike">
                <a:solidFill>
                  <a:srgbClr val="ffffcc"/>
                </a:solidFill>
                <a:latin typeface="Tahoma"/>
              </a:rPr>
              <a:t>и део </a:t>
            </a: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m. hyoglossus – a) </a:t>
            </a:r>
            <a:r>
              <a:rPr b="0" lang="sr-Latn-CS" sz="1800" spc="-1" strike="noStrike">
                <a:solidFill>
                  <a:srgbClr val="ff9900"/>
                </a:solidFill>
                <a:latin typeface="Tahoma"/>
              </a:rPr>
              <a:t>trig. linguale anterius Pirogoffov</a:t>
            </a: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sr-Latn-CS" sz="14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0" lang="sr-CS" sz="1400" spc="-1" strike="noStrike">
                <a:solidFill>
                  <a:srgbClr val="ffffcc"/>
                </a:solidFill>
                <a:latin typeface="Tahoma"/>
              </a:rPr>
              <a:t>тетива дигастрицуса, задња ивица милохиоидеуса и </a:t>
            </a:r>
            <a:r>
              <a:rPr b="0" lang="sr-Latn-CS" sz="1400" spc="-1" strike="noStrike">
                <a:solidFill>
                  <a:srgbClr val="ffffcc"/>
                </a:solidFill>
                <a:latin typeface="Tahoma"/>
              </a:rPr>
              <a:t>n. hypoglossus-</a:t>
            </a:r>
            <a:r>
              <a:rPr b="0" lang="sr-CS" sz="1400" spc="-1" strike="noStrike">
                <a:solidFill>
                  <a:srgbClr val="ffffcc"/>
                </a:solidFill>
                <a:latin typeface="Tahoma"/>
              </a:rPr>
              <a:t>одозго</a:t>
            </a:r>
            <a:r>
              <a:rPr b="0" lang="sr-Latn-CS" sz="1400" spc="-1" strike="noStrike">
                <a:solidFill>
                  <a:srgbClr val="ffffcc"/>
                </a:solidFill>
                <a:latin typeface="Tahoma"/>
              </a:rPr>
              <a:t>)</a:t>
            </a:r>
            <a:br>
              <a:rPr sz="1400"/>
            </a:b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5) glandula submandibularis</a:t>
            </a:r>
            <a:br>
              <a:rPr sz="1800"/>
            </a:b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6) </a:t>
            </a:r>
            <a:r>
              <a:rPr b="0" lang="sr-CS" sz="1800" spc="-1" strike="noStrike">
                <a:solidFill>
                  <a:srgbClr val="ffffcc"/>
                </a:solidFill>
                <a:latin typeface="Tahoma"/>
              </a:rPr>
              <a:t>дубоки судови</a:t>
            </a: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: a. facialis, a. lingualis, v. facialis, v. lingualis</a:t>
            </a:r>
            <a:br>
              <a:rPr sz="1800"/>
            </a:b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7) nodi lymphatici submandibulares</a:t>
            </a:r>
            <a:br>
              <a:rPr sz="1800"/>
            </a:b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8) </a:t>
            </a:r>
            <a:r>
              <a:rPr b="0" lang="sr-CS" sz="1800" spc="-1" strike="noStrike">
                <a:solidFill>
                  <a:srgbClr val="ffffcc"/>
                </a:solidFill>
                <a:latin typeface="Tahoma"/>
              </a:rPr>
              <a:t>дубоки живци </a:t>
            </a: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(n. mylohioideus, n. hypoglossu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99"/>
                </a:solidFill>
                <a:latin typeface="Tahoma"/>
              </a:rPr>
              <a:t>Trigonum caroticum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Границе: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- напред и горе: задњи трбух дигастричног мишића 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- напред и доле: горњи трбух омохиоидног мишића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- позади: предња ивица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m. sternocleidomastoideus-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Значај: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- у овом пределу изводи се лигатура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a. carotis communis, a. carotis externae,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а изузетно и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a. carotis internae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-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у овом пределу врши се хирушко подвезивање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a.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l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ingualis, untar </a:t>
            </a:r>
            <a:r>
              <a:rPr b="0" lang="sr-Latn-CS" sz="2000" spc="-1" strike="noStrike" u="sng">
                <a:solidFill>
                  <a:srgbClr val="ff9900"/>
                </a:solidFill>
                <a:uFillTx/>
                <a:latin typeface="Tahoma"/>
              </a:rPr>
              <a:t>trigonum lin</a:t>
            </a:r>
            <a:r>
              <a:rPr b="0" lang="en-US" sz="2000" spc="-1" strike="noStrike" u="sng">
                <a:solidFill>
                  <a:srgbClr val="ff9900"/>
                </a:solidFill>
                <a:uFillTx/>
                <a:latin typeface="Tahoma"/>
              </a:rPr>
              <a:t>guale posterius</a:t>
            </a:r>
            <a:r>
              <a:rPr b="0" lang="sr-Latn-CS" sz="2000" spc="-1" strike="noStrike" u="sng">
                <a:solidFill>
                  <a:srgbClr val="ff9900"/>
                </a:solidFill>
                <a:uFillTx/>
                <a:latin typeface="Tahoma"/>
              </a:rPr>
              <a:t> Beclardi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(граница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: горе - задњи трбух дигастричног мишића, доле – велики рог хиоидне кости, позади – заднја ивица хиоглосног мишић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Слојеви: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1) кожа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2) поткожни слој са платизмом и површинским судовима и живцима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3) lamina superficialis fasciae cervicalis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4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дубоки судови и живци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a. carotis communis, a. carotis externa, a. carotis interna, v. jugularis interna, n. vagus, n. hypoglossus, ansa cervicalis,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стабло вратног симпатикуса (сасвим дубоко)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99"/>
                </a:solidFill>
                <a:latin typeface="Tahoma"/>
              </a:rPr>
              <a:t>2) Regio sternocleidomastoide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241280"/>
            <a:ext cx="8785440" cy="52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Слојеви: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1) кожа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2) поткожни слој са платизмом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3) поткожни судови и живци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4) lamina superficialis fasciae cervicalis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5) m. sternocleidomastoideus, venter inferior m. omohyoidei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6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дубоки судови и живци (прескаленски део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a. subclaviae, a. carotis communis, v. subclavia, a. carotis externa, v. jugularis interna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са бочном групом дубоких лимфних жлезда врата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, n. vagus, n. hypoglossus,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стабло вратног симпатикус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99"/>
                </a:solidFill>
                <a:latin typeface="Tahoma"/>
              </a:rPr>
              <a:t>3) Regio cervicalis laterali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856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Слојеви: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1) кожа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2) поткожни слој са платизмом и површинским судовима и живцима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v. jugularis externa, n. occipitalis minor, nn. supraclavicularis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3) lamina superficialis fasciae cervicalis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4) venter inferior m. omohyoidei i lamina pretrachealis fasciae cervicalis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5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дубоки судови и живци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a. subclavia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и њене бочне гране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, v. subclavia,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завршни део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v. jugularis externae,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дубоке лимфне жлезде врата и лимфни судови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, r. externus nervi accessorii, rr. ventrales nervi cervicalium, n. pherenicus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6) lamina prevertebralis fasciae cervicalis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7) mm. scalen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Подела: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а) горњи део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б) донји део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trigonum omoclavicular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99"/>
                </a:solidFill>
                <a:latin typeface="Tahoma"/>
              </a:rPr>
              <a:t>4) Regio cervicalis posterior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12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Слојеви: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1) кожа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2) поткожни слој са површинским судовима и живцима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a. occipitalis, n. occipitalis major, n. occipitalis tertius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3) lamina superficialis fasciae cervicalis (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покрива м. трапезиус и наставља се површном фасцијом леђа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4) lig. nuchae (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задња вратна веза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5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мишићи задње стране врата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6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дубоке артерије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a. occipitalis, a. vertebralis, a. cervicalis profunda, ramus superficialis a. transversae colli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7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дубоке вене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v. occipitalis, v. vertebralis, v. cervicalis profunda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8) nodi lymphatici occipitales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9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дубоки живци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rr. dorsales nn. cervicalium, n.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s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uboccipitalis i n. occipitalis tertiu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21:14:54Z</dcterms:created>
  <dc:creator>IvanM</dc:creator>
  <dc:description/>
  <cp:keywords/>
  <dc:language>en-US</dc:language>
  <cp:lastModifiedBy>Win10</cp:lastModifiedBy>
  <dcterms:modified xsi:type="dcterms:W3CDTF">2021-01-28T21:09:50Z</dcterms:modified>
  <cp:revision>3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746</vt:lpwstr>
  </property>
</Properties>
</file>